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03C-2F52-44F7-861E-A6BB2745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5CC-8F7B-4AF1-A3D3-3DE79763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D6A-33E7-4E34-AD81-3EFBB593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1D8-494B-4EAD-A418-6504A199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E6DA-82DE-4991-9490-FBB7E304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1EC4-38D3-477B-9BD9-023E20C1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2A12-274D-435B-99D5-0EED5974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DE5D-50AC-456E-A748-E131CDF0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CCA7-D1DC-4E28-8CBF-3B2209F7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DD1E-B51B-4518-A0FB-D8FC197B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449C-DA42-4807-B532-B196E52D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D15-7FCD-49BC-B9CF-FD1F0131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5BD1-4A40-4AD1-AA88-5585C2DF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E8F9-F02E-42F4-B719-CA75E00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9598-E7F8-47D7-B5F5-AE44A855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7BE9-6F90-4B20-AA4F-144F3E06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585F-264E-49F0-A7C3-4DE8A4D6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F603-F2A5-4DAC-BE64-C78A7380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7D44-7297-492D-8261-BA96CF23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F6E6-F88F-48B3-AB83-3B71D6D7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CD77F-0A0F-4500-8044-F75722A2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A274-35D9-4F20-9BB2-B3381967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4D1-9EC5-46DA-8E40-5F2D123A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17D7-2AB1-44D4-854E-5E9D8BAC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2571-8FD3-47E1-BCCA-ED03BA32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F4EF-81D3-4CC4-867A-C8502C56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515C-1953-410F-A8F1-02207EE2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F70E-5AB9-4E5C-99C5-D9B6C813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0DFF2-3E7D-418B-B9F3-DE18CBBA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303C7-AD4A-4C1C-8FA6-CE170BBF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E00E-8BBD-4FB6-9451-FB4B5DF5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B58F5-6C6A-4EFD-8879-4B71B109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5001-39A2-4E0E-9BE4-AEA9442C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E23-11C8-4179-B060-6A319389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B8011-AF1A-4BBE-BB9B-83F9C716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9A6CB-04D1-44AF-BCA1-91C685FF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E527-6E0E-4C9B-A130-A6017233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ABA50-E962-4108-9602-645E3610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C6FF7-4DD4-4E7E-BD7B-1DF82F67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E947-0C3D-4A4A-BDB0-299A2591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9C56-718E-43BF-95E4-588B9AB6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3D6A-E1AB-4D2D-A01F-563F2B25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E885-E629-4972-8056-C09AE232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C3438-103E-46BD-B65B-5CCE00F4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178-2FDC-4784-9491-2B2EAC1D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1DDC7-5136-4721-9E82-193C98F5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54E28-6C43-452D-A9ED-50E8F01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4497F-9C10-4F61-B48B-456D491C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56116-F8BD-4DD2-81F4-DC217C78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8B7B5-760D-4D64-9CF3-0A507C03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F7A97-E5AC-4DEC-963F-7F919FA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6D321-63D4-4AAA-99B7-408B107F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C6E38-9566-4532-9986-A1B4803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AA4A-F91D-4ED1-A997-6C2DD926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15C94-E9B4-44A6-9075-A1B666D4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319-B1C6-403E-8D2D-0157B56B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39B8E-D7A7-4D3E-96B9-F875F0CE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B9D-FF98-40C4-8FAD-81AE779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AE8-0E65-4F10-A706-F2D7A8E2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8F3-DBA4-4934-8C37-8AA38C7A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B22B-0358-41E8-ACF4-0DB04AB3B2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4221-E60D-4A6D-9477-8AF5AA7DF3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7FA5-013C-4241-8586-86823794B0C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AF07-2386-4E03-8424-A97DAB33A2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FCEC-0873-45C9-9F89-5A3A5C45932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689040" y="1487520"/>
            <a:ext cx="832644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Chapter 1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Marketing 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MR2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3733920" y="3429000"/>
            <a:ext cx="3504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Constrains establish the upper and lower bound for a price that can be charged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ere &amp; how a product is priced within that lower and upper bound depends on the Objectives of the organiz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various objectives that an organization has in order to set its prices depend on several facto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wanting to maximize profi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wanting to maximize Sales revenu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maximize Market sha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sell a lot of produc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maximize consumer valu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be socially responsibl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r, finally are they just trying to survive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Demand for a product is a function of two major types of thin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) The price of the product -- Usually the higher the price the lower the dema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) Factors other than price, such as consumer tastes, consumer income or the availability and price of other similar or substitutable produc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 Demand Schedule and a Demand Curve reflecting quantity demanded at different  price level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5" name="Object 5"/>
          <p:cNvGraphicFramePr/>
          <p:nvPr/>
        </p:nvGraphicFramePr>
        <p:xfrm>
          <a:off x="990720" y="2819520"/>
          <a:ext cx="320040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200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Line 7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44956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16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 Demand Schedule and a Demand Curve reflecting a shift in the demand curve brought about by a change in quantity demanded because of non price changes. Assume that the product becomes “trendy”.  Relative qty. demanded at any given price point goes up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0" name="Object 6"/>
          <p:cNvGraphicFramePr/>
          <p:nvPr/>
        </p:nvGraphicFramePr>
        <p:xfrm>
          <a:off x="685800" y="4114800"/>
          <a:ext cx="3886200" cy="20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3886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Line 10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17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18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19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7010280" y="2514600"/>
            <a:ext cx="16765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22"/>
          <p:cNvSpPr/>
          <p:nvPr/>
        </p:nvSpPr>
        <p:spPr>
          <a:xfrm flipV="1">
            <a:off x="6553080" y="28951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23"/>
          <p:cNvSpPr/>
          <p:nvPr/>
        </p:nvSpPr>
        <p:spPr>
          <a:xfrm flipV="1">
            <a:off x="754380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24"/>
          <p:cNvSpPr/>
          <p:nvPr/>
        </p:nvSpPr>
        <p:spPr>
          <a:xfrm>
            <a:off x="457200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25"/>
          <p:cNvSpPr/>
          <p:nvPr/>
        </p:nvSpPr>
        <p:spPr>
          <a:xfrm>
            <a:off x="64008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shifts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erms to Kn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otal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verage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rginal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asticity of dem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MARGINAL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One way an organization can determine whether it is maximizing its potential profit is to calculate its marginal costs and marginal revenues from one level of output to the nex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marginal costs equal marginal revenue (MR=MC) stop producing/selling any more  (Why?: It costs as much to make that extra unit as the extra revenue selling that unit will bring in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is determines the level of production/sales required in order for a company to stop loosing money,  break-even and start making mone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o calculate the break even point (in units) you need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OTAL FIXED CO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IT VARIABLE COS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LING PRICE PER UN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Break Even Point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=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nstantia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(Selling Price per unit  - Unit Variable cost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CH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1371600" y="2895480"/>
            <a:ext cx="0" cy="289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371600" y="5715000"/>
            <a:ext cx="7391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1295280" y="50292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7"/>
          <p:cNvSpPr/>
          <p:nvPr/>
        </p:nvSpPr>
        <p:spPr>
          <a:xfrm flipV="1">
            <a:off x="1371600" y="2819520"/>
            <a:ext cx="7086600" cy="2209680"/>
          </a:xfrm>
          <a:prstGeom prst="line">
            <a:avLst/>
          </a:prstGeom>
          <a:ln w="5724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5013360" y="2743200"/>
            <a:ext cx="19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tal Cost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318280" y="46134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ed Cost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6172200" y="3774960"/>
            <a:ext cx="35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. Cost Com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371600" y="5029200"/>
            <a:ext cx="7391520" cy="685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3505320" y="5334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ed Cost Com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990720" y="5715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7621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434340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much should it cos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es Marine Atlantic arrive at the cost of a ticket to take the Ferry from NL to N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4" descr="route_map"/>
          <p:cNvPicPr/>
          <p:nvPr/>
        </p:nvPicPr>
        <p:blipFill>
          <a:blip r:embed="rId1"/>
          <a:stretch/>
        </p:blipFill>
        <p:spPr>
          <a:xfrm>
            <a:off x="2819520" y="2743200"/>
            <a:ext cx="1724040" cy="1555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5105520" y="3200400"/>
            <a:ext cx="33526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cto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rastructure - Ship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i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2"/>
          <a:srcRect l="1708" t="12001" r="59835" b="35626"/>
          <a:stretch/>
        </p:blipFill>
        <p:spPr>
          <a:xfrm>
            <a:off x="685800" y="3505320"/>
            <a:ext cx="2666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re are 4 basic methods used to set an approximate price lev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s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rofi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mpetitive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 price that is picked is set based on the projected demand for the product.  Specific strategies includ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Skimming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High price -low volum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enetration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lower price-high volume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restige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imilar to skimming with snob appeal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560" y="20570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(cont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rice lin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Offering different models with different prices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Odd-even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etting prices with odd numbers $499.99 sounds &amp; feels better than $500.00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Demand Backward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Predict sales, set Total revenue target  take total revenue/sales in units = pric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Bundle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Offering a bundle of complementary products for a single package price - vacation packag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Value-Based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Increase benefits offered for a same or lower pric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9047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st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 price is set based on the approximated cost of bringing the product to mark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Mark up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 The cost of the product is the basis for which the price calculation is base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tandard Mark up  &amp; Cost Plus pricing add a fixed percentage or a fixed amount to the cost to arrive at a pri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Experience Curve Pricing 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 As you get better at making products the time and cost to make each one is reduced -- therefore the price can be reduced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rofi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Profit Pricing (see calculations in text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Return on Sa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Return on Investment Pric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mpetition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Customary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Charge a price that is the “usual” price in the industry.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Above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-Below Market Price (Charge a price that differs from the industry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Loss-Leader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ell a promoted item at a loss or low price -- the intent is to attract customers to buy this product and in the process they will buy other regular priced items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Sealed Bid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ame as a “Tender” - Suppliers are invited to bid to supply specified product(s) and the lowest bid price wins the deal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ep 5 - Set a List Pr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ased on all of the analysis done thus far in the process a “List” price can be determined.  The list price is a suggested price and may not truly reflect the price charged to all customer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Customer, Company and Competitive factors may come into play in determining whether or not a company deviates from its list pri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pecial Adjustments to the List or Quoted Pri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scou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llowa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Geographical Adjust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scounts - reductions in the list price based on some of the following reas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ason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aying Cas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lowances - An effective reduction in the unit price based on some of the following reas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trade in allow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promotional allow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is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nstantia"/>
              </a:rPr>
              <a:t>The money or other consideration exchange for ownership or use of a good or servic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560" y="2133360"/>
            <a:ext cx="883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Geographical Adjustments - an effective reduction or increase in the unit list price because of your geographical location relative to the suppli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Free-on-Board (FOB) pric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y will put it on the truck but you pay for the shipping co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Uniform Delivery pric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 Price is the same wherever you live -- the supplier pays the shipp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Legal Aspects of Setting Pr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Price fixing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several suppliers colluding to raise prices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Price Discrimination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Charging one price to one customer and another price to another for no reason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Deceptive Pricing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Falsifying the true price of the item - deceiving the customer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&amp;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ice is a fixed te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alue is a relative term that is measured by the consum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Value is the ratio of perceived benefits offered to price charged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is made up of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Sticker (list) p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scounts offered 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Sales, Mark-downs, Volum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lowances offered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Trade in Allowance, case allowa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lu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axes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HST, GST, PS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ofit is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Revenue (Price x Quant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Cost (Fixed Costs + Variable Cos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Steps Involved in </a:t>
            </a:r>
            <a:br>
              <a:rPr sz="4500"/>
            </a:b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etting a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1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dentify Pricing Constraints and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2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stimate Demand and Estimate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3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termine Cost-Volume and Profit relationsh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4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a Approximate Pric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5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a list p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6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ke special Adjustments to Quote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are practical limits under which a company must set its price range for a produ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inclu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Demand for the actual product, its class of product or the demand for the Brand na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ewness of the product -- where it is in the life cy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single product limits the range of prices that can be charged, whereas a line of products can be offered at different prices depending on the mod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include: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cost of making and marketing the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costs involved in changing the prices once they are se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type of competitive market that exists.  Little competition means prices can be set by the seller whereas heavy competition means that the market sets the prices and as a result prices will tend to go dow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What other similar products sell for limits the range of price that can be charg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7:29:51Z</dcterms:created>
  <dc:creator>Debbie Vincent</dc:creator>
  <dc:description/>
  <dc:language>en-US</dc:language>
  <cp:lastModifiedBy>Tilley, Paul (C'ville)</cp:lastModifiedBy>
  <dcterms:modified xsi:type="dcterms:W3CDTF">2012-02-08T15:44:55Z</dcterms:modified>
  <cp:revision>11</cp:revision>
  <dc:subject/>
  <dc:title>Pricing:  Relating Objectives to revenues and Cos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